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B1D-DA9C-4BD6-ABD0-0AF5EFDE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EC0-7CC1-4755-B47A-D4530647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57A-7075-4F94-92E3-65C9130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A6A-D795-4FA7-B17D-BEFDC7E6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CE1-2CE4-4658-92A7-099E3EF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259-0E3C-498E-916F-4E57301F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CD9-9C7A-4A74-8D8A-C755D79F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EE2-9823-40FE-ABD3-EBF2A165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A23-3738-4F0A-A3BB-44699541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CF6-B382-4BCC-B184-6631A8C8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689-DD67-4E7A-910C-AC01A69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986-5F5B-439A-BF2D-E7E6089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5FF-5A13-4B92-B3FC-687EFBD9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Us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p 5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.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.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.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. New Zea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3448080"/>
            <a:ext cx="5105520" cy="34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18:20Z</dcterms:created>
  <dc:creator>Wellcare User</dc:creator>
  <dc:description/>
  <dc:language>en-US</dc:language>
  <cp:lastModifiedBy>Wellcare User</cp:lastModifiedBy>
  <dcterms:modified xsi:type="dcterms:W3CDTF">2009-11-09T03:32:57Z</dcterms:modified>
  <cp:revision>3</cp:revision>
  <dc:subject/>
  <dc:title>Geothermal Usage!</dc:title>
</cp:coreProperties>
</file>